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68CC-0231-4779-9A34-F3305F24E4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8680-C5AD-429C-953D-01C96E385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классное мероприятие можно использовать для групповых и индивидуальных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034D-D4FA-4B30-AD8C-AEA7ECC88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E29E-6E4D-4E2E-8B89-85E570D87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E5DF-2D8A-4B94-A364-539CF3278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2454-4B1E-4290-86C8-4B30B1785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76CA-0FE9-46E0-8886-E3551F5B5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328A-B107-46C0-955B-8D9635490F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5973-AFE6-4443-9A04-DDEDA495D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DD0B-C5E1-48BE-9695-9DFCCC633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FDF4-C7ED-4878-87DB-64763BA4A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F63B-01BA-4C33-BF4C-6F5B03C3A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9BD4-1501-4C78-B83D-05BDDD8DA5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774E-BAF4-4248-8BE5-1E1A0A233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40A0-A94D-43EA-86EF-BD1F4FD65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DB77-93FA-491B-B22C-44BFDC4E5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5359-9C2A-4F15-92B9-427C4C3E0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4433-402A-4BF5-ABB7-1B252AC91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DDFB-835A-4E7C-9F85-57A2CDFD9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857B-8556-4B76-B112-E0CB65BA8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A1B6-B208-447B-BB01-00CC30347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318A-2B80-4F44-9793-D1F5DE022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D118-D243-4297-A92A-C281C78D9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8460-5E8B-48F3-AC22-EF53DD896A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C8DC-E611-4937-B2E1-8951A7C38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2B55-3E3D-4ECA-AC74-8FE154F39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0A20-D2BA-4612-B1B7-1C3EFDFB9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12CF-FEBB-4437-A65E-7D1ABDD1B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783F-586D-4EAA-9392-215FD2864C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5916-FA75-494C-A36F-C7B1B4D6A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7012-237A-4A57-98B1-3AC22D8FB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716E-A633-4EC9-897D-36650498B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FF83-26D9-4AE9-97DB-E015C5ED4F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859A-4C8B-40D7-9C6A-7A78BF0D8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E736-5207-42C8-965E-66C57D65E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0A92-E8BA-458F-B299-EBF3E03B7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14D3-091D-4D88-8A91-F245B5DBA8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AB97-67D2-46DF-B139-51E0A6EF1C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1831-9187-4EF7-8F5C-B76D2A1FA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6CBE-59E5-4262-8014-824F2E575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8A85-96B7-4370-88BA-3E76F95243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A5F3-37A2-4407-995D-CB5F2BBAA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43E5-C02B-4157-9928-A87A118DCD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01DD-37EA-4FC1-B3E8-A766840C4F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7A6-91C5-4A9D-B11D-A950C3AD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8DD-384F-4D8B-A9FD-E6C0A65D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033-C1B0-4724-8431-E6841F5E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C49-84E5-4505-9718-2725AFCD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BA81-3AC7-4D04-AA51-BB194FE3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6BE4-1D6A-49E2-826A-465D292D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3507-3273-4C8A-8CE1-89C33724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F04E-FF1D-4638-A7BB-B6E12254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2E62-D528-41EE-92F3-39E654F5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6C92-B781-4707-834B-E84973D1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E531-70FA-487B-863F-9525A935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CEB-855B-4653-BF7A-2E48AFD9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7C80-B817-4880-AAF6-98D59F6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F0E5-F915-4E50-90DB-1672F25D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7DF0-00F6-4A63-86D2-89580A51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58B9-C051-4EA8-99A1-5F3A14CF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5966-E7A8-437C-ACFA-C095D502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992-9767-47F7-BE53-FA66E715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FA5-62D3-4C02-A0AA-DEAF1FE1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D06-96DD-41A7-BE82-9C3E36D0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D403-3ED0-4E49-AB1B-A17B1F2E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048-3A6E-4EFA-A9EE-1C02E8C0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3FC-D175-4C2F-AA41-3D65B7EC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E11-19AF-4A10-9DC3-97436266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25F1-6FFF-4D0E-9788-184F9D7EFA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9EEE-2F2D-441E-8AE6-9F120175A0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5.xml"/><Relationship Id="rId34" Type="http://schemas.openxmlformats.org/officeDocument/2006/relationships/slide" Target="slide36.xml"/><Relationship Id="rId35" Type="http://schemas.openxmlformats.org/officeDocument/2006/relationships/slide" Target="slide37.xml"/><Relationship Id="rId36" Type="http://schemas.openxmlformats.org/officeDocument/2006/relationships/slide" Target="slide38.xm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kolizej.ucoz.ru/_pu/0/66718.jpg" TargetMode="External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zastavki.com/pictures/1280x800/2009/Space_Asteroids_are_too_close_018166_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ranamam.ru/data/cache/2009dec/07/14/16326_17046-700x500.jpg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l.yimg.com/au.yimg.com/i/life/img/bhg/2210-apples-350x412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fw.org.ua/uploads/posts/2010-06/1277283014_wallpapers-70.jpg" TargetMode="External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2c911"/>
            </a:gs>
            <a:gs pos="50000">
              <a:srgbClr val="ffff99"/>
            </a:gs>
            <a:gs pos="100000">
              <a:srgbClr val="a2c9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C:\Users\СОЦПЕД\Desktop\ima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31240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"Подумай, оглянись вокруг, реши – что важно в жизни для твоей души…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5"/>
          <p:cNvSpPr/>
          <p:nvPr/>
        </p:nvSpPr>
        <p:spPr>
          <a:xfrm>
            <a:off x="4648320" y="4952880"/>
            <a:ext cx="4495680" cy="16002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янова Есения Владимировна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ОУ  Большепикинская О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. Большое Пикино,Борский райо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жегород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23"/>
          <p:cNvSpPr txBox="1"/>
          <p:nvPr/>
        </p:nvSpPr>
        <p:spPr>
          <a:xfrm>
            <a:off x="5029200" y="457200"/>
            <a:ext cx="4114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07932" dir="189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07932" dir="189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C:\Users\USER\Desktop\53a4571536223.jpg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ru-RU" sz="38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Физическая культура </a:t>
            </a:r>
            <a:r>
              <a:rPr b="1" lang="ru-RU" sz="3800" spc="-1" strike="noStrike">
                <a:solidFill>
                  <a:srgbClr val="c00000"/>
                </a:solidFill>
                <a:latin typeface="Times New Roman"/>
              </a:rPr>
              <a:t>(30)</a:t>
            </a:r>
            <a:r>
              <a:rPr b="0" lang="ru-RU" sz="3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66720" y="167616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каких видах спорта нужна мишен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атлон, стрельба из лука, винтовки и писто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C:\Users\USER\Desktop\arbitr.jpg"/>
          <p:cNvPicPr/>
          <p:nvPr/>
        </p:nvPicPr>
        <p:blipFill>
          <a:blip r:embed="rId1"/>
          <a:stretch/>
        </p:blipFill>
        <p:spPr>
          <a:xfrm>
            <a:off x="0" y="1295280"/>
            <a:ext cx="5410080" cy="38102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2. Физическая культура (4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51814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ФОТОВОПРО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Как называют судью в футбол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вет: Арби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вопрос"/>
          <p:cNvPicPr/>
          <p:nvPr/>
        </p:nvPicPr>
        <p:blipFill>
          <a:blip r:embed="rId3"/>
          <a:stretch/>
        </p:blipFill>
        <p:spPr>
          <a:xfrm>
            <a:off x="5257800" y="1905120"/>
            <a:ext cx="3438360" cy="2184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876560" y="1600200"/>
            <a:ext cx="4267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C:\Users\USER\Desktop\devushli_sportsmenki_03.jpg"/>
          <p:cNvPicPr/>
          <p:nvPr/>
        </p:nvPicPr>
        <p:blipFill>
          <a:blip r:embed="rId1"/>
          <a:stretch/>
        </p:blipFill>
        <p:spPr>
          <a:xfrm>
            <a:off x="3276720" y="2743200"/>
            <a:ext cx="58672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2. Физическая культура (5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частвовали ли женщины в древних Олимпийских игр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1760" y="4495680"/>
            <a:ext cx="792468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C:\Users\USER\Desktop\hello_html_7e0cf79d.jpg"/>
          <p:cNvPicPr/>
          <p:nvPr/>
        </p:nvPicPr>
        <p:blipFill>
          <a:blip r:embed="rId1"/>
          <a:stretch/>
        </p:blipFill>
        <p:spPr>
          <a:xfrm>
            <a:off x="5029200" y="144792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3. Народная мудрость(10)</a:t>
            </a:r>
            <a:br>
              <a:rPr sz="4200"/>
            </a:br>
            <a:r>
              <a:rPr b="1" i="1" lang="ru-RU" sz="7200" spc="-1" strike="noStrike" u="sng">
                <a:solidFill>
                  <a:srgbClr val="c00000"/>
                </a:solidFill>
                <a:uFillTx/>
                <a:latin typeface="Times New Roman"/>
              </a:rPr>
              <a:t>Аукцион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ьяному море по колено, а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жа по 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C:\Users\USER\Desktop\s49603070.jpg"/>
          <p:cNvPicPr/>
          <p:nvPr/>
        </p:nvPicPr>
        <p:blipFill>
          <a:blip r:embed="rId1"/>
          <a:stretch/>
        </p:blipFill>
        <p:spPr>
          <a:xfrm>
            <a:off x="0" y="1219320"/>
            <a:ext cx="5029200" cy="5638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3. Народная мудрость(2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876560" y="15238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а- с ручейка, а пьянство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рюм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C:\Users\USER\Desktop\hello_html_7e0cf79d.jpg"/>
          <p:cNvPicPr/>
          <p:nvPr/>
        </p:nvPicPr>
        <p:blipFill>
          <a:blip r:embed="rId1"/>
          <a:stretch/>
        </p:blipFill>
        <p:spPr>
          <a:xfrm>
            <a:off x="5334120" y="1447920"/>
            <a:ext cx="3809880" cy="5410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3. Народная мудрость (3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улявший много смол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рёт под старость с гол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C:\Users\USER\Desktop\1001957293.jpg"/>
          <p:cNvPicPr/>
          <p:nvPr/>
        </p:nvPicPr>
        <p:blipFill>
          <a:blip r:embed="rId1"/>
          <a:stretch/>
        </p:blipFill>
        <p:spPr>
          <a:xfrm>
            <a:off x="0" y="144792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3. Народная мудрость (4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57600" y="213336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 вина лицо краснеет, а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сть черне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C:\Users\USER\Desktop\2598877946.jpg"/>
          <p:cNvPicPr/>
          <p:nvPr/>
        </p:nvPicPr>
        <p:blipFill>
          <a:blip r:embed="rId1"/>
          <a:stretch/>
        </p:blipFill>
        <p:spPr>
          <a:xfrm>
            <a:off x="5334120" y="1371600"/>
            <a:ext cx="3809880" cy="5486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3. Народная мудрость (5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чарку допивает, тот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у не дож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rId2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C:\Users\USER\Desktop\4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4. 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«Здоровье человека и общество»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 (10)</a:t>
            </a:r>
            <a:r>
              <a:rPr b="0" lang="ru-RU" sz="39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9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должите древнее изречение: «В здоровом тел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 здоровый ду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C:\Users\USER\Desktop\depositphotos_19348143-stock-photo-fanfare-on-a-white-background.jpg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4191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4. 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«Здоровье человека и общество»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 (20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419112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ш выигрыш увеличи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2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Рисунок1"/>
          <p:cNvPicPr/>
          <p:nvPr/>
        </p:nvPicPr>
        <p:blipFill>
          <a:blip r:embed="rId3"/>
          <a:stretch/>
        </p:blipFill>
        <p:spPr>
          <a:xfrm>
            <a:off x="1447920" y="1981080"/>
            <a:ext cx="5715000" cy="15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Те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1676520"/>
          <a:ext cx="7772400" cy="5113080"/>
        </p:xfrm>
        <a:graphic>
          <a:graphicData uri="http://schemas.openxmlformats.org/drawingml/2006/table">
            <a:tbl>
              <a:tblPr/>
              <a:tblGrid>
                <a:gridCol w="3454200"/>
                <a:gridCol w="849240"/>
                <a:gridCol w="851040"/>
                <a:gridCol w="851040"/>
                <a:gridCol w="915840"/>
                <a:gridCol w="85104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и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родная муд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 человека и общ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5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Брось сигарету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«Алкоголь - яд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2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«Наркотики – белая смерть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hlinkClick r:id="rId3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  <a:hlinkClick r:id="rId3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 </a:t>
                      </a:r>
                      <a:r>
                        <a:rPr b="0" lang="ru-RU" sz="24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hlinkClick r:id="rId36" action="ppaction://hlinksldjump"/>
                        </a:rPr>
                        <a:t>ФИ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" descr="Картинка 24 из 95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00200"/>
            <a:ext cx="4724280" cy="52578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4. 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«Здоровье человека и общество»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 (30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дики утверждают, что будущее именно за такой медици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филак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>
            <a:hlinkClick r:id="rId3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4. 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«Здоровье человека и общество»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 (40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19112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олжите фразу Владимира Леви «Жизнь делает жизнью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C:\Users\USER\Desktop\i4S3T0Y7Y.jpg"/>
          <p:cNvPicPr/>
          <p:nvPr/>
        </p:nvPicPr>
        <p:blipFill>
          <a:blip r:embed="rId2"/>
          <a:stretch/>
        </p:blipFill>
        <p:spPr>
          <a:xfrm>
            <a:off x="0" y="1447920"/>
            <a:ext cx="4038480" cy="5410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4. 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«Здоровье человека и общество»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</a:rPr>
              <a:t> (50)</a:t>
            </a:r>
            <a:r>
              <a:rPr b="1" lang="ru-RU" sz="39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4952520"/>
            <a:ext cx="914400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 наука возникла в связи с полетами человека в космо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физи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Картинка 16 из 39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60020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6" descr="C:\Users\USER\Desktop\cigarette-burning.jpg"/>
          <p:cNvPicPr/>
          <p:nvPr/>
        </p:nvPicPr>
        <p:blipFill>
          <a:blip r:embed="rId1"/>
          <a:stretch/>
        </p:blipFill>
        <p:spPr>
          <a:xfrm>
            <a:off x="3429000" y="4317840"/>
            <a:ext cx="5715000" cy="2540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5. Брось сигарету!(1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 попадании в больших количествах в организм человека этого содержащегося в табаке яда начинаются судорог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т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>
            <a:hlinkClick r:id="rId2" action="ppaction://hlinksldjump"/>
          </p:cNvPr>
          <p:cNvSpPr/>
          <p:nvPr/>
        </p:nvSpPr>
        <p:spPr>
          <a:xfrm>
            <a:off x="8153280" y="60199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5. Брось сигарету! (2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чему курильщикам труднее, чем некурящему, выучить стихотвор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урильщиков ухудшается 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5. Брось сигарету! (3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то происходит с зубами человека под воздействием клейких смол, образующихся при кур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убы желте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3760" y="190476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C:\Users\USER\Desktop\i276RK2H0.jpg"/>
          <p:cNvPicPr/>
          <p:nvPr/>
        </p:nvPicPr>
        <p:blipFill>
          <a:blip r:embed="rId1"/>
          <a:stretch/>
        </p:blipFill>
        <p:spPr>
          <a:xfrm>
            <a:off x="0" y="396252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5. Брось сигарету! (4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 курении часть гемоглобина крови соединяется с этим ядовитым газ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рны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C:\Users\USER\Desktop\27.jpg"/>
          <p:cNvPicPr/>
          <p:nvPr/>
        </p:nvPicPr>
        <p:blipFill>
          <a:blip r:embed="rId1"/>
          <a:stretch/>
        </p:blipFill>
        <p:spPr>
          <a:xfrm>
            <a:off x="3733920" y="2819520"/>
            <a:ext cx="5410080" cy="40384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5. Брось сигарету! (5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19веке в Петербурге запрещалось курить на улице. Нарушителей порядка строго штрафовали. Кто выступал инициатором запрета на кур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жа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C:\Users\USER\Desktop\pishevarenie_v_geludke.jpg"/>
          <p:cNvPicPr/>
          <p:nvPr/>
        </p:nvPicPr>
        <p:blipFill>
          <a:blip r:embed="rId1"/>
          <a:stretch/>
        </p:blipFill>
        <p:spPr>
          <a:xfrm>
            <a:off x="5334120" y="38098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6.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«Алкоголь - яд!»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(1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заболевания желудка возникают при злоупотреблении алкогол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стрит, язва и рак желу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6.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«Алкоголь - яд!»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(2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ереводится слово «алкоголь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урманив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19360" y="23270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Картинка 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1. Питание (1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56386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л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0" y="18284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 каких единицах измеряется энергетическая ценность пищ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>
            <a:hlinkClick r:id="rId3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C:\Users\USER\Desktop\iS5BLR718.jpg"/>
          <p:cNvPicPr/>
          <p:nvPr/>
        </p:nvPicPr>
        <p:blipFill>
          <a:blip r:embed="rId1"/>
          <a:stretch/>
        </p:blipFill>
        <p:spPr>
          <a:xfrm>
            <a:off x="4800600" y="1523880"/>
            <a:ext cx="4343400" cy="53341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6.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«Алкоголь - яд!»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(3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й вред наносит своему будущему ребенку употребляющая алкоголь беременная женщи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коголь может привести к появлению физических уродств и вызвать нарушение психик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6.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«Алкоголь - яд!»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(40)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и клетки являются самыми чувствительными к вредному воздействию алкого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533520" y="4876920"/>
            <a:ext cx="8381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рвные клетки головного моз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040" y="4648320"/>
            <a:ext cx="7467480" cy="14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195264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Users\USER\Desktop\karfagen-big.jpg"/>
          <p:cNvPicPr/>
          <p:nvPr/>
        </p:nvPicPr>
        <p:blipFill>
          <a:blip r:embed="rId1"/>
          <a:stretch/>
        </p:blipFill>
        <p:spPr>
          <a:xfrm>
            <a:off x="4800600" y="1547640"/>
            <a:ext cx="4343400" cy="53103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6.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«Алкоголь - яд!»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(5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81480" y="1905120"/>
            <a:ext cx="3733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1599840"/>
            <a:ext cx="662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му наказанию подвергалась в Древнем Карфагане кормилица за употребление алкогол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ная ка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7.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«Наркотики – белая смерть»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 (1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пользование наркоманами нестерильных шприцев способствует распространению этого неизлечимого заболе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7.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«Наркотики – белая смерть»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 (20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рез какой промежуток после употребления наркотика человек становится наркома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одной дозы до 2-3 меся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040" y="5105520"/>
            <a:ext cx="380988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7.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«Наркотики – белая смерть»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 (30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лет живет нарком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0033"/>
                </a:solidFill>
                <a:latin typeface="Arial"/>
              </a:rPr>
              <a:t> в среднем  около 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:\Users\USER\Desktop\i6H1GNK2U.jpg"/>
          <p:cNvPicPr/>
          <p:nvPr/>
        </p:nvPicPr>
        <p:blipFill>
          <a:blip r:embed="rId1"/>
          <a:stretch/>
        </p:blipFill>
        <p:spPr>
          <a:xfrm>
            <a:off x="1828800" y="30481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7.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«Наркотики – белая смерть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 (40) 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древние греки назвали бы человека, страдающего влечением к оцепенени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ман нарке- оцепенение, мния- в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7. 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«Наркотики – белая смерть»</a:t>
            </a: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 (50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влияет употребление наркотиков на потом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родителей-наркоманов дети рождаются с различными умственными и физическими отклонениями, а впоследствии отстают в умственном и физическом развитии от своих свер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048120" y="1752120"/>
            <a:ext cx="5486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ff"/>
                </a:solidFill>
                <a:uFillTx/>
                <a:latin typeface="Arial"/>
              </a:rPr>
              <a:t>Согревающий эфф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ff"/>
                </a:solidFill>
                <a:uFillTx/>
                <a:latin typeface="Arial"/>
              </a:rPr>
              <a:t>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ff"/>
                </a:solidFill>
                <a:uFillTx/>
                <a:latin typeface="Arial"/>
              </a:rPr>
              <a:t>Ви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ff"/>
                </a:solidFill>
                <a:uFillTx/>
                <a:latin typeface="Arial"/>
              </a:rPr>
              <a:t>Послед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66ff"/>
                </a:solidFill>
                <a:uFillTx/>
                <a:latin typeface="Arial"/>
              </a:rPr>
              <a:t>Изме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3"/>
          <p:cNvSpPr/>
          <p:nvPr/>
        </p:nvSpPr>
        <p:spPr>
          <a:xfrm>
            <a:off x="2209680" y="449568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Arial"/>
              </a:rPr>
              <a:t>ФИНА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AutoShape 17"/>
          <p:cNvSpPr/>
          <p:nvPr/>
        </p:nvSpPr>
        <p:spPr>
          <a:xfrm>
            <a:off x="2209680" y="380988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8"/>
          <p:cNvSpPr/>
          <p:nvPr/>
        </p:nvSpPr>
        <p:spPr>
          <a:xfrm>
            <a:off x="2209680" y="236232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9"/>
          <p:cNvSpPr/>
          <p:nvPr/>
        </p:nvSpPr>
        <p:spPr>
          <a:xfrm>
            <a:off x="2209680" y="304812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0"/>
          <p:cNvSpPr/>
          <p:nvPr/>
        </p:nvSpPr>
        <p:spPr>
          <a:xfrm>
            <a:off x="2209680" y="1676520"/>
            <a:ext cx="685800" cy="685800"/>
          </a:xfrm>
          <a:prstGeom prst="sun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ff"/>
                </a:solidFill>
                <a:uFillTx/>
                <a:latin typeface="Times New Roman"/>
              </a:rPr>
              <a:t>«Согревающий эффект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ы ли те, кто говорит о согревающем действии алкого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твет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коголь, воздействуя на подкорку, вызывает пораже­ние сосудодвигательного центра, регулирующего, в частно­сти, тонус сосудов; и кожи. Расширение этих сосудов после приема алкоголя субъективно воспринимается как ощуще­ние тепла. На самом деле расширение кожных сосудов при­водит к повышенной теплоотда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C:\Users\USER\Desktop\i.jpg"/>
          <p:cNvPicPr/>
          <p:nvPr/>
        </p:nvPicPr>
        <p:blipFill>
          <a:blip r:embed="rId1"/>
          <a:stretch/>
        </p:blipFill>
        <p:spPr>
          <a:xfrm>
            <a:off x="0" y="1600200"/>
            <a:ext cx="5715000" cy="5257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1. Питание (2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55623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621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 витамин содержится в следующих ягодах: шиповник, чёрная смородина, черника, голубика, земляника, брусника, ряб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«Это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о то, с помощью чего в Кувейте почти 70% студентов делают «это», в Японии- почти 44% врачей, в Испании- 45% врачей, что для врачей как раз и странно. Что они делают и с помощью чег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ят, сига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«Винт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овы последствия употребления популярного в среде наркоманов дешевого наркотика первитина (другое название «винт»)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рез шесть месяцев употребления у человека налицо все признаки дебилиз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«Последствия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чему прием алкоголя приводит к дрожанию рук, тела, судорогам, повышению артериального дав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Arial"/>
              </a:rPr>
              <a:t>Отв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коголь быстро всасывается в кровь, и действие его распространяется на все органы. Фильтруясь из крови че­рез почечные канальцы, алкоголь не только раздражает их, и вместе с ним выделяются многие ценные и необходимые для нормальной жизнедеятельности организма вещества. В частности, нарушается содержание в крови калия, на­трия, кальция, магния. Недостаток в крови магния приво­дит к раздражительности, дрожанию рук, тела, судорогам, повыш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ff"/>
                </a:solidFill>
                <a:latin typeface="Georgia"/>
              </a:rPr>
              <a:t>«Изменения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изменения в поведении знакомого должны насторожить вас на предмет употребления им наркотиков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венная ложь попытка неуклюже объяснить странные поступки. Водянистые стеклянные глаза, пустые, с расширенными зрачками, не реагирующими на свет. Поменялись друзья, исчезли старые. Не интересуется жизнью близких, отстранен от мира. Раздражительность, истерики, изменение режима сна( спит целый день или не спит ночами ходит , натыкаясь на предметы). Пропадают деньги, выманивает обманом крупные су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90720" y="28195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игра окончена"/>
          <p:cNvPicPr/>
          <p:nvPr/>
        </p:nvPicPr>
        <p:blipFill>
          <a:blip r:embed="rId1"/>
          <a:stretch/>
        </p:blipFill>
        <p:spPr>
          <a:xfrm>
            <a:off x="609480" y="2438280"/>
            <a:ext cx="7848720" cy="176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1. Питание (3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олее половины энергетических потребностей организма покрывается за счет этих веществ, содержащихся в пищ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1. Питание (4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5105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ость, дробность,  разнообразие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219320" y="2666520"/>
            <a:ext cx="7027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зовите основные принципы рационального пит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>
            <a:hlinkClick r:id="rId1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Картинка 15 из 346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0"/>
            <a:ext cx="342900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1" descr="C:\Users\USER\Desktop\iCVPI35R5.jpg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1. Питание (5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62160" y="137124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летучие вещества, способные помочь в борьбе с вирусами, содержат лук и чесно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тонц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C:\Users\USER\Desktop\depositphotos_19348143-stock-photo-fanfare-on-a-white-background.jpg"/>
          <p:cNvPicPr/>
          <p:nvPr/>
        </p:nvPicPr>
        <p:blipFill>
          <a:blip r:embed="rId1"/>
          <a:stretch/>
        </p:blipFill>
        <p:spPr>
          <a:xfrm>
            <a:off x="0" y="1371600"/>
            <a:ext cx="8915400" cy="4572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2. Физическая культура (1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AutoShape 5">
            <a:hlinkClick r:id="rId2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Рисунок1"/>
          <p:cNvPicPr/>
          <p:nvPr/>
        </p:nvPicPr>
        <p:blipFill>
          <a:blip r:embed="rId3"/>
          <a:stretch/>
        </p:blipFill>
        <p:spPr>
          <a:xfrm>
            <a:off x="1676520" y="1981080"/>
            <a:ext cx="5715000" cy="15670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129528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ш выигрыш увеличи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10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Картинка 1 из 638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676520"/>
            <a:ext cx="4648320" cy="5181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2. Физическая культура (20)</a:t>
            </a:r>
            <a:r>
              <a:rPr b="0" lang="ru-RU" sz="4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ак называется состояние полного физического благополуч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>
            <a:hlinkClick r:id="rId3" action="ppaction://hlinksldjump"/>
          </p:cNvPr>
          <p:cNvSpPr/>
          <p:nvPr/>
        </p:nvSpPr>
        <p:spPr>
          <a:xfrm>
            <a:off x="840564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13082" y="3837"/>
                </a:moveTo>
                <a:lnTo>
                  <a:pt x="15659" y="6448"/>
                </a:ln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2" y="10800"/>
                </a:lnTo>
                <a:lnTo>
                  <a:pt x="18392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5" h="21600">
                <a:moveTo>
                  <a:pt x="15659" y="6448"/>
                </a:moveTo>
                <a:lnTo>
                  <a:pt x="15659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5" h="21600">
                <a:moveTo>
                  <a:pt x="12160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2" y="17989"/>
                </a:lnTo>
                <a:lnTo>
                  <a:pt x="18392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60" y="1798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сенков С.А.</dc:creator>
  <dc:description>Презентацию можно использовать для групповых и индивидуальных занятий</dc:description>
  <cp:keywords>география</cp:keywords>
  <dc:language>en-US</dc:language>
  <cp:lastModifiedBy>User</cp:lastModifiedBy>
  <dcterms:modified xsi:type="dcterms:W3CDTF">2021-12-09T05:35:19Z</dcterms:modified>
  <cp:revision>353</cp:revision>
  <dc:subject>география</dc:subject>
  <dc:title>Своя игра по географии 8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Автор">
    <vt:lpwstr>Лисенков С.А.</vt:lpwstr>
  </property>
  <property fmtid="{D5CDD505-2E9C-101B-9397-08002B2CF9AE}" pid="3" name="Цель">
    <vt:lpwstr>закрепление знаний по географии в 8 кл.</vt:lpwstr>
  </property>
  <property fmtid="{D5CDD505-2E9C-101B-9397-08002B2CF9AE}" pid="4" name="Язык">
    <vt:lpwstr>русский</vt:lpwstr>
  </property>
  <property fmtid="{D5CDD505-2E9C-101B-9397-08002B2CF9AE}" pid="5" name="класс">
    <vt:lpwstr>8</vt:lpwstr>
  </property>
  <property fmtid="{D5CDD505-2E9C-101B-9397-08002B2CF9AE}" pid="6" name="тема">
    <vt:lpwstr>география</vt:lpwstr>
  </property>
</Properties>
</file>